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96C8-D7DB-45A6-84DE-147284C1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035-C801-4759-AE86-2910433F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E620-103C-4F27-8FC6-3CD48108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C92-2CB4-47DB-A668-BBCDFF30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0943-529D-4351-A119-3060201E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85C-559C-4A05-B6BE-2F682623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792-BAB8-4CA8-9F5F-A90DED26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4AB-DD75-45E4-8DD5-1D41AC62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A87C-1172-4453-963D-F43C3D7A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86D-33ED-4D97-9B62-8E060243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401-12D0-495E-879D-0D0D93CA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5A3-C18F-45C7-B8F0-F16E0C15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FEBC-3647-48A1-9F2B-466CDDC421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RestrictedPermissionViewer?clid=2052" TargetMode="External"/><Relationship Id="rId3" Type="http://schemas.openxmlformats.org/officeDocument/2006/relationships/hyperlink" Target="http://r.office.microsoft.com/r/rlidRestrictedPermissionViewer?clid=2052" TargetMode="External"/><Relationship Id="rId4" Type="http://schemas.openxmlformats.org/officeDocument/2006/relationships/hyperlink" Target="http://r.office.microsoft.com/r/rlidRestrictedPermissionViewer?clid=2052" TargetMode="External"/><Relationship Id="rId5" Type="http://schemas.openxmlformats.org/officeDocument/2006/relationships/hyperlink" Target="http://r.office.microsoft.com/r/rlidRestrictedPermissionViewer?clid=2052" TargetMode="External"/><Relationship Id="rId6" Type="http://schemas.openxmlformats.org/officeDocument/2006/relationships/hyperlink" Target="http://r.office.microsoft.com/r/rlidRestrictedPermissionViewer?clid=2052" TargetMode="External"/><Relationship Id="rId7" Type="http://schemas.openxmlformats.org/officeDocument/2006/relationships/hyperlink" Target="http://r.office.microsoft.com/r/rlidRestrictedPermissionViewer?clid=2052" TargetMode="External"/><Relationship Id="rId8" Type="http://schemas.openxmlformats.org/officeDocument/2006/relationships/hyperlink" Target="http://r.office.microsoft.com/r/rlidDRMMoreInfoLicenseReq?clid=2052" TargetMode="External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97180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对此演示文稿的权限当前受到限制。如果没有运行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Microsoft Office 2003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或其他支持受限权限演示文稿的应用程序，您可以下载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ernet Explore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的权限管理加载项”以阅读此演示文稿。单击“视图”菜单的“幻灯片放映”可以打开此链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8288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2"/>
              </a:rPr>
              <a:t>下载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3"/>
              </a:rPr>
              <a:t>“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4"/>
              </a:rPr>
              <a:t>用于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5"/>
              </a:rPr>
              <a:t>Internet Explorer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6"/>
              </a:rPr>
              <a:t>的权限管理加载项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7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251460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8"/>
              </a:rPr>
              <a:t>了解关于受限权限文档的更多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4-10T10:55:58Z</dcterms:modified>
  <cp:revision>84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24889819</vt:r8>
  </property>
</Properties>
</file>